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CEF-2FC4-48DD-8817-E2CEE2C3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891-593F-4974-8DC2-CD35C79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8D0-5D6D-4A3F-8101-C3559655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79F-8269-4115-92FB-1E6F779D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4CF-3BBA-486A-92F7-20AF79B5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27D-6D20-45AE-AE07-15A80E78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F5E-0F8F-45A2-8155-095DB4D9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B89-4767-4DAB-9605-DB77087C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787-639E-47A3-BA90-2D62E341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106-630D-4D0D-A9EF-38D931D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FC7-D6F6-472C-95D5-8675CEB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A41-E7A6-4DF9-818B-174D01F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7CF-F8B0-45A5-850D-0D71654444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81080" y="40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六  手机电路关键点信号测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268280"/>
            <a:ext cx="35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测试工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一、数字频率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772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6.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SIM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卡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2590920"/>
            <a:ext cx="7467120" cy="2974320"/>
            <a:chOff x="838080" y="2590920"/>
            <a:chExt cx="7467120" cy="297432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2590920"/>
              <a:ext cx="7467120" cy="2208240"/>
              <a:chOff x="838080" y="2590920"/>
              <a:chExt cx="7467120" cy="2208240"/>
            </a:xfrm>
          </p:grpSpPr>
          <p:pic>
            <p:nvPicPr>
              <p:cNvPr id="73" name="SIMDA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590920"/>
                <a:ext cx="3428640" cy="220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SIMCLK" descr=""/>
              <p:cNvPicPr/>
              <p:nvPr/>
            </p:nvPicPr>
            <p:blipFill>
              <a:blip r:embed="rId2"/>
              <a:srcRect l="0" t="0" r="14943" b="0"/>
              <a:stretch/>
            </p:blipFill>
            <p:spPr>
              <a:xfrm>
                <a:off x="4266720" y="2590920"/>
                <a:ext cx="4038480" cy="210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371600" y="51055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卡数据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SIMDA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波形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卡时钟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SIMCLK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波形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00400" y="44956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SIMVCC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波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8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5.3  SIMVCC" descr=""/>
          <p:cNvPicPr/>
          <p:nvPr/>
        </p:nvPicPr>
        <p:blipFill>
          <a:blip r:embed="rId1">
            <a:lum contrast="44000"/>
          </a:blip>
          <a:srcRect l="12386" t="0" r="0" b="0"/>
          <a:stretch/>
        </p:blipFill>
        <p:spPr>
          <a:xfrm>
            <a:off x="838080" y="1905120"/>
            <a:ext cx="7723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1905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7.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显示数据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SDATA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波形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DATA" descr="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152280" y="2895480"/>
            <a:ext cx="8686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219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8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受话器两端测得音频信号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57200" y="2209680"/>
            <a:ext cx="81439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12193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照明灯电路驱动信号波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脉冲波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23880" y="2362320"/>
            <a:ext cx="6438960" cy="143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0200" y="4343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发光二极管组成的键盘灯电路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驱动信号波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0" y="914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背景灯点亮控制信号波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背景灯控制信号" descr=""/>
          <p:cNvPicPr/>
          <p:nvPr/>
        </p:nvPicPr>
        <p:blipFill>
          <a:blip r:embed="rId1">
            <a:lum contrast="46000"/>
          </a:blip>
          <a:srcRect l="0" t="0" r="0" b="7358"/>
          <a:stretch/>
        </p:blipFill>
        <p:spPr>
          <a:xfrm>
            <a:off x="2057400" y="1447920"/>
            <a:ext cx="4305240" cy="162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由“电致发光板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构成的照明灯电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驱动电压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双向三角波" descr=""/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1523880" y="3962520"/>
            <a:ext cx="57913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371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脉宽调制信号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WM)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波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WM波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990720" y="2438280"/>
            <a:ext cx="7162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685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二、示 波 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7.69%20示波器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295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7636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未标题-2" descr=""/>
          <p:cNvPicPr/>
          <p:nvPr/>
        </p:nvPicPr>
        <p:blipFill>
          <a:blip r:embed="rId1"/>
          <a:srcRect l="13110" t="18897" r="8504" b="12283"/>
          <a:stretch/>
        </p:blipFill>
        <p:spPr>
          <a:xfrm>
            <a:off x="533520" y="1143000"/>
            <a:ext cx="8153280" cy="504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838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三、频谱分析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关键点的波形测试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81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. 13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2.76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k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正玄波" descr=""/>
          <p:cNvPicPr/>
          <p:nvPr/>
        </p:nvPicPr>
        <p:blipFill>
          <a:blip r:embed="rId1">
            <a:lum contrast="30000"/>
          </a:blip>
          <a:srcRect l="4013" t="0" r="20066" b="2469"/>
          <a:stretch/>
        </p:blipFill>
        <p:spPr>
          <a:xfrm>
            <a:off x="609480" y="2514600"/>
            <a:ext cx="7543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1295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XVCO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控制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27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5.4   TXVCO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57200" y="2133720"/>
            <a:ext cx="8115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990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480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1600200"/>
            <a:ext cx="8915400" cy="401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88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示波器测得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004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3" descr=""/>
          <p:cNvPicPr/>
          <p:nvPr/>
        </p:nvPicPr>
        <p:blipFill>
          <a:blip r:embed="rId1">
            <a:lum contrast="48000"/>
          </a:blip>
          <a:srcRect l="11356" t="0" r="885" b="0"/>
          <a:stretch/>
        </p:blipFill>
        <p:spPr>
          <a:xfrm>
            <a:off x="990720" y="1066680"/>
            <a:ext cx="7238880" cy="4322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5562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示波器测得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1371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发射使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XON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596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简明教程86 TxON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80880" y="2438280"/>
            <a:ext cx="83631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143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出的频率合成器数据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DAT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CL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和使能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EN(SYNON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YNDAT、SYNCLK、SYNEN" descr=""/>
          <p:cNvPicPr/>
          <p:nvPr/>
        </p:nvPicPr>
        <p:blipFill>
          <a:blip r:embed="rId1">
            <a:lum contrast="44000"/>
          </a:blip>
          <a:srcRect l="0" t="3028" r="11619" b="8076"/>
          <a:stretch/>
        </p:blipFill>
        <p:spPr>
          <a:xfrm>
            <a:off x="1905120" y="2133720"/>
            <a:ext cx="51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7:03:20Z</dcterms:modified>
  <cp:revision>11</cp:revision>
  <dc:subject/>
  <dc:title>PowerPoint Presentation</dc:title>
</cp:coreProperties>
</file>